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B89-B57D-465C-9076-46721497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073-F32F-432D-B0B9-13752CB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E69-D261-47CF-9237-D5C4C324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2F6-671B-4645-8184-4A96751A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A1C1-3E9F-473E-90D4-B4FD5A57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585-2EDF-4639-9A95-351D2B6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95F4-120F-4ADD-90B6-A6088CD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96A-C78B-4945-9A0B-B03B5E10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0C7B-5A36-4717-B0ED-B27F889B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6130-D506-4838-AC87-E003054B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6F9-EB5F-41CB-8FDB-86BBEA3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D80-E1C4-4795-BC09-0B2991ED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2D49-CF87-40CF-A762-276757B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B915-E5A8-42F6-9942-E2AAB8B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3F9-A8FC-47B7-9934-3E8428C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C1AF-2DAD-4DBB-9F61-CF7B73F0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C30-1FC2-4129-AD5E-BD804C8D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E72-ED64-4380-AD5B-F87B3AE4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4C9-86BB-4B79-B49E-269B576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72D-243F-404F-A6E9-4404162F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464-48B5-4A3C-BD42-A8A4791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158-1B32-4443-B9B3-89E7B1DE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5BE-E674-40AE-A434-4502BA20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8F2-A03C-47B9-B759-B6233E0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908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6474-7765-4ADA-87EC-895324188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24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3F8-0850-4364-97FB-1F4BE7C69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1773000"/>
            <a:ext cx="8296200" cy="20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cial Relationship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riages in Germ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5400" y="4191120"/>
            <a:ext cx="8211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lle Lo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 Titles and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79440" y="1828800"/>
            <a:ext cx="790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cle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riage in Ger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www.topics-mag.com/internatl/weddings/german-wedding.h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cle #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rman Wedding Lore &amp; Tra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www.weddingdetails.com/lore-tradition/germany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cle #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-sex Marriage in Ger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germany.angloinfo.com/family/marriage-partnerships/same-sex-marriage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lture Ph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socialrelationship_family_marriage_lopez"/>
          <p:cNvPicPr/>
          <p:nvPr/>
        </p:nvPicPr>
        <p:blipFill>
          <a:blip r:embed="rId1"/>
          <a:stretch/>
        </p:blipFill>
        <p:spPr>
          <a:xfrm>
            <a:off x="1143000" y="1447920"/>
            <a:ext cx="71150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ce between Germany and U.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owns “punish” single people over the age of 30 by cleaning the city h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vil wedding takes place 6 weeks before the actual marriage in the city h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ouple wants to have a church wedding then the civil wedding happens a week or a day before the wed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terabend: friends and families break old porcelains in front of the bride and groom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e leaves the dinner AFTER the last guest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olterab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2680" y="5954400"/>
            <a:ext cx="723888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ravelscopia.com/wp-content/uploads/2011/05/Polterabe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50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6640" y="1600200"/>
            <a:ext cx="7238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agement ring (gold band) is placed on the left hand ring finger before the marriage. It then goes on the right hand ring finger after the wed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s get a wedding contract (similar to prenuptial agreement)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atsvertr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de doesn’t throw a bouquet of flowers to the bridesmaid. The bridesmaids have to dance around the bride (who’s blindfolded) and they’ll get pic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lyweds share a piece of bread for a future full of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seen as a bad luck for brides to take off their crowns before mid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read Sh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38000" y="57927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eddingsetups.com/wp-content/uploads/2010/03/Picture+3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960" y="3027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66680" y="1600200"/>
            <a:ext cx="71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: Life Partnership Act was passed by the German Parliament (take last names, allowed to be divorced, may support each other financial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: Revised the act; can't testify each other, may apply for state pension, and allowed to adopt biological 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rties have to be 18 years old or older to be wed (parental supervision is needed if they're 14 to 17 years 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Germans may apply for citizenship if they're getting married to a German citi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goes through the process of civil marri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 (LSVD)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031000" cy="3354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438280" y="5411880"/>
            <a:ext cx="61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hnenversand.de/fotw/images/d/de%7Dlsv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1720" y="1752480"/>
            <a:ext cx="725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bride have to wear till midnight or else it'll be considered as a bad lu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does the couple have to have their civil wedding prior to their real wedding d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5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6720" y="1851120"/>
            <a:ext cx="74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(cr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6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5:00Z</dcterms:created>
  <dc:creator>SCSadmin</dc:creator>
  <dc:description/>
  <cp:keywords/>
  <dc:language>en-US</dc:language>
  <cp:lastModifiedBy>SCSadmin</cp:lastModifiedBy>
  <cp:lastPrinted>1899-12-30T00:00:00Z</cp:lastPrinted>
  <dcterms:modified xsi:type="dcterms:W3CDTF">2012-11-01T12:57:53Z</dcterms:modified>
  <cp:revision>17</cp:revision>
  <dc:subject/>
  <dc:title>Marriages in Germa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30</vt:lpwstr>
  </property>
</Properties>
</file>